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AED1-2DDF-4711-820B-18097463F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641F-6EFB-4DB6-A76F-E4B40876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1CC8-7B2A-46D7-BC3C-0DB280E75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5BCB-C72C-4405-B549-981411BFD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FDF6-46FE-4BCD-9178-FE1209603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64F6-FB56-4A88-922B-702FFBD9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571F-B0F0-4265-A8EB-ECEF689A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13FE-32C6-4EFA-8C99-6A5A8CAB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D24C-4922-485B-B5BA-F4752320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1A86-E1EA-467B-904A-12F3F527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F6DB-E0F7-4443-B77A-298DE78E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16F3-FC10-4875-AD56-9A536DDD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63CD-D8E4-4BD0-93E1-E87DA0F5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922D2-A1D5-4C30-9FE6-CE1B13FE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43D6C-E6E7-4EE0-BAB9-59F9727F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02BBB-A67E-4C2E-9E3C-CEB5EC09A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BC55-6FAF-4CA9-B345-DA1207F99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3066-3441-4764-B13C-40D9279A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E0DF-3250-4D2C-879F-6AFDE83C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FEC9-BE0C-452D-B18A-CCF1D829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2A7E-1C59-425D-8652-86EB6802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9C26-D2D1-49F7-B542-6E390C24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3AD2-0BA3-43BA-BEBB-637E8144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0242-B5F7-40C0-9DF3-1A403FC2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FCF4-2168-4CE2-AF62-F01D59FFE80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BD71-9572-46E8-9062-244B50DC296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blem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90720" y="24379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can they gain enough money for the renovation of their kitch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are from India and they lack resourc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21</a:t>
            </a:r>
            <a:r>
              <a:rPr b="0" lang="en-US" sz="38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Century Skills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27432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blem Identification, Formulation, and Solu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lf-Dir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lu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27432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y need to provide a program for them to be able to monitor their expen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7T21:17:58Z</dcterms:created>
  <dc:creator>madrid</dc:creator>
  <dc:description/>
  <dc:language>en-US</dc:language>
  <cp:lastModifiedBy>madrid</cp:lastModifiedBy>
  <dcterms:modified xsi:type="dcterms:W3CDTF">2012-06-27T21:59:19Z</dcterms:modified>
  <cp:revision>2</cp:revision>
  <dc:subject/>
  <dc:title>Problem: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